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E06-FB11-44F6-AEAA-E3C2C1CA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E55-E510-44C6-A545-6443E05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980-92B1-445A-9861-27F7EBC2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D2B-58B6-41F1-BE3C-4E7011C4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D60-4B82-43CF-AAF3-5EE78C34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955-4B2A-466D-8AEC-A828E60D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7CB-7086-4A67-BBF4-8F2B7E3E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593-917B-47DA-A0E9-7725B0F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549-F725-44CD-8C0A-E95BFD51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7F7-B252-4234-BE98-5CB4D05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FE7-2151-4379-B6F9-0CACD6B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3D6-8A06-4C41-AC43-FDBEDC75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F35B-8349-4E74-B020-9DD95180E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71680" y="2286000"/>
            <a:ext cx="778644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Rounded MT Bold"/>
              </a:rPr>
              <a:t>The Crisis of Newspaper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409320" y="260280"/>
            <a:ext cx="718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 Rounded MT Bold"/>
              </a:rPr>
              <a:t>Large newspaper chai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 Rounded MT Bold"/>
              </a:rPr>
              <a:t>are in difficul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57120" y="1928880"/>
            <a:ext cx="752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Companies borrowed lot of money to buy news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57120" y="3429000"/>
            <a:ext cx="77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Most of newspaper were carrying a low amount of debt</a:t>
            </a:r>
            <a:r>
              <a:rPr b="0" lang="it-IT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53160" y="4643280"/>
            <a:ext cx="72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Some companies stopped debt pay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0" y="260280"/>
            <a:ext cx="89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 Rounded MT Bold"/>
              </a:rPr>
              <a:t>In America there are three different situ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11280" y="1989000"/>
            <a:ext cx="787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Some newspaper would like to merge with others in the sam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42960" y="3286080"/>
            <a:ext cx="68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The most important companies decided to put papers up for sale to solve theirs problems</a:t>
            </a:r>
            <a:r>
              <a:rPr b="0" lang="it-IT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143000" y="4714920"/>
            <a:ext cx="420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urier New"/>
              </a:rPr>
              <a:t>Not all newspapers have deb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 Rounded MT Bold"/>
              </a:rPr>
              <a:t>Kill the media zombies</a:t>
            </a:r>
            <a:br>
              <a:rPr sz="4400"/>
            </a:br>
            <a:r>
              <a:rPr b="0" i="1" lang="it-IT" sz="2000" spc="-1" strike="noStrike">
                <a:solidFill>
                  <a:srgbClr val="000000"/>
                </a:solidFill>
                <a:latin typeface="Arial Rounded MT Bold"/>
              </a:rPr>
              <a:t>by Tina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15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The purpose of traditional media companie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PROF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4940280"/>
            <a:ext cx="6048720" cy="93672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NO INNOVATION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429000"/>
            <a:ext cx="2447640" cy="720720"/>
          </a:xfrm>
          <a:prstGeom prst="rect">
            <a:avLst/>
          </a:prstGeom>
          <a:noFill/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urier New"/>
              </a:rPr>
              <a:t>NO INNO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The suits have lost what they call “</a:t>
            </a:r>
            <a:r>
              <a:rPr b="1" i="1" lang="it-IT" sz="32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All efforts at innovation get stopped by something called “</a:t>
            </a:r>
            <a:r>
              <a:rPr b="1" i="1" lang="it-IT" sz="32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urier New"/>
              </a:rPr>
              <a:t>The indeterminate stasis and the lack of decision produ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Dismis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umberla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urier New"/>
              </a:rPr>
              <a:t>Talent drain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5229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Let the good times rol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013360"/>
            <a:ext cx="727236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161000">
            <a:off x="5076000" y="19162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Are the right  people lea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375800">
            <a:off x="4787640" y="1628640"/>
            <a:ext cx="3384360" cy="1657440"/>
          </a:xfrm>
          <a:prstGeom prst="wedgeEllipseCallout">
            <a:avLst>
              <a:gd name="adj1" fmla="val -76643"/>
              <a:gd name="adj2" fmla="val 56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54:04Z</dcterms:created>
  <dc:creator> </dc:creator>
  <dc:description/>
  <dc:language>en-US</dc:language>
  <cp:lastModifiedBy> </cp:lastModifiedBy>
  <dcterms:modified xsi:type="dcterms:W3CDTF">2009-03-01T21:22:24Z</dcterms:modified>
  <cp:revision>12</cp:revision>
  <dc:subject/>
  <dc:title>The death of the newspaper</dc:title>
</cp:coreProperties>
</file>